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10360"/>
            <a:ext cx="9144000" cy="64764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093080" y="6597720"/>
            <a:ext cx="1800000" cy="135000"/>
            <a:chOff x="7093080" y="6597720"/>
            <a:chExt cx="1800000" cy="135000"/>
          </a:xfrm>
        </p:grpSpPr>
        <p:sp>
          <p:nvSpPr>
            <p:cNvPr id="2" name=""/>
            <p:cNvSpPr/>
            <p:nvPr/>
          </p:nvSpPr>
          <p:spPr>
            <a:xfrm>
              <a:off x="7093080" y="6597720"/>
              <a:ext cx="1800000" cy="13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ENSITIVITY LEVEL : PUBLI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093080" y="6597720"/>
              <a:ext cx="1800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093080" y="6732720"/>
              <a:ext cx="1800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093080" y="6597720"/>
              <a:ext cx="0" cy="135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893080" y="6597720"/>
              <a:ext cx="0" cy="135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5219640" y="6237360"/>
            <a:ext cx="374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Surfi: Unified Financial Reporting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381720"/>
            <a:ext cx="50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nque de France – Secrétariat général de la Commission bancai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39640" y="0"/>
            <a:ext cx="0" cy="765000"/>
          </a:xfrm>
          <a:prstGeom prst="line">
            <a:avLst/>
          </a:prstGeom>
          <a:ln w="34920">
            <a:solidFill>
              <a:srgbClr val="f9b6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438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530064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4076640"/>
            <a:ext cx="3888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9th XBRL International 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June 23th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ric J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XBRL Exp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ernard Darri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XBRL Exp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7636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SURFI-Taxonomy Development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303280" cy="1155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19640" y="289080"/>
            <a:ext cx="5689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rétariat général de la Commission bancai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ion de la Surveillance Générale du Système Bancair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0"/>
            <a:ext cx="0" cy="1052640"/>
          </a:xfrm>
          <a:prstGeom prst="line">
            <a:avLst/>
          </a:prstGeom>
          <a:ln w="34920">
            <a:solidFill>
              <a:srgbClr val="f9b6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5877000"/>
          <a:ext cx="1779480" cy="260280"/>
        </p:xfrm>
        <a:graphic>
          <a:graphicData uri="http://schemas.openxmlformats.org/drawingml/2006/table">
            <a:tbl>
              <a:tblPr/>
              <a:tblGrid>
                <a:gridCol w="1779480"/>
              </a:tblGrid>
              <a:tr h="2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68360" y="0"/>
            <a:ext cx="8675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generation of the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484280"/>
            <a:ext cx="7010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7093080" y="6597720"/>
          <a:ext cx="1800000" cy="13500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135720">
                <a:tc>
                  <a:txBody>
                    <a:bodyPr lIns="90000" rIns="90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ENSITIVITY LEVEL : PUBL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1042920" y="1844640"/>
            <a:ext cx="7345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mand line program written in Perl for Taxonomy and formula link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put files 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olored templates + 1 file for hypervolumes and 1 file for dimensions + 1 configuration file with default values for each template (default type, period value, balance value, prefix and label for namespaces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4 executable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itArbo.exe (TAx.bat)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or generation of 9 primary taxonomies from accounting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nTaxoDim.exe (GTDx.bat)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or generation of dim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itGab.exe and GenTaxoTransp.exe (TGx.bat GTTx.bat)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or generation of child taxonomies (primaries, and template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68360" y="0"/>
            <a:ext cx="8675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 link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1413000"/>
            <a:ext cx="70106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093080" y="6597720"/>
          <a:ext cx="1800000" cy="13500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135720">
                <a:tc>
                  <a:txBody>
                    <a:bodyPr lIns="90000" rIns="90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ENSITIVITY LEVEL : PUBL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042920" y="1844640"/>
            <a:ext cx="7345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4 types of SURFI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imple aggregation (F1) : </a:t>
            </a:r>
            <a:r>
              <a:rPr b="0" lang="en-US" sz="1400" spc="-1" strike="noStrike">
                <a:solidFill>
                  <a:srgbClr val="cc6600"/>
                </a:solidFill>
                <a:latin typeface="Arial"/>
              </a:rPr>
              <a:t>equal relation between facts, all elements are primary elements which have the same context and uni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: Calculation Link in all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« Of which » assertion (F2) : </a:t>
            </a:r>
            <a:r>
              <a:rPr b="0" lang="en-US" sz="1400" spc="-1" strike="noStrike">
                <a:solidFill>
                  <a:srgbClr val="cc6600"/>
                </a:solidFill>
                <a:latin typeface="Arial"/>
              </a:rPr>
              <a:t>like F1 but “greater than or equal to” re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imensional aggregation (F3 F4) : </a:t>
            </a:r>
            <a:r>
              <a:rPr b="0" lang="en-US" sz="1400" spc="-1" strike="noStrike">
                <a:solidFill>
                  <a:srgbClr val="cc6600"/>
                </a:solidFill>
                <a:latin typeface="Arial"/>
              </a:rPr>
              <a:t>primary item(s) with same concept name, identifier, period, unit and dimension with each domain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imple formula : </a:t>
            </a:r>
            <a:r>
              <a:rPr b="0" lang="en-US" sz="1400" spc="-1" strike="noStrike">
                <a:solidFill>
                  <a:srgbClr val="cc6600"/>
                </a:solidFill>
                <a:latin typeface="Arial"/>
              </a:rPr>
              <a:t>addressing any element  of the XBRL instance. The name, dimensions, dimension values are explicitly indic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68360" y="0"/>
            <a:ext cx="8675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 link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1484280"/>
            <a:ext cx="7010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093080" y="6597720"/>
          <a:ext cx="1800000" cy="13500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135720">
                <a:tc>
                  <a:txBody>
                    <a:bodyPr lIns="90000" rIns="90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ENSITIVITY LEVEL : PUBL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3962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flipH="1">
            <a:off x="250200" y="836640"/>
            <a:ext cx="1152360" cy="792000"/>
          </a:xfrm>
          <a:prstGeom prst="wedgeRoundRectCallout">
            <a:avLst>
              <a:gd name="adj1" fmla="val -183199"/>
              <a:gd name="adj2" fmla="val 24638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F1: Calculation vali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484360" y="836640"/>
            <a:ext cx="1152720" cy="504720"/>
          </a:xfrm>
          <a:prstGeom prst="wedgeRoundRectCallout">
            <a:avLst>
              <a:gd name="adj1" fmla="val -18874"/>
              <a:gd name="adj2" fmla="val 61886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F2: « of which » vali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426920" y="836640"/>
            <a:ext cx="1368360" cy="504720"/>
          </a:xfrm>
          <a:prstGeom prst="wedgeRoundRectCallout">
            <a:avLst>
              <a:gd name="adj1" fmla="val 24939"/>
              <a:gd name="adj2" fmla="val 5282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F3 F4: Dimension aggre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132000" y="1341360"/>
            <a:ext cx="1727280" cy="36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8360" y="1341360"/>
            <a:ext cx="2303280" cy="158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68360" y="0"/>
            <a:ext cx="8675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 link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26920" y="1413000"/>
            <a:ext cx="70106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7093080" y="6597720"/>
          <a:ext cx="1800000" cy="13500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135720">
                <a:tc>
                  <a:txBody>
                    <a:bodyPr lIns="90000" rIns="90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ENSITIVITY LEVEL : PUBL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1042920" y="1844640"/>
            <a:ext cx="7345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rameters to deal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olerance Margin : </a:t>
            </a:r>
            <a:r>
              <a:rPr b="0" lang="en-US" sz="1400" spc="-1" strike="noStrike">
                <a:solidFill>
                  <a:srgbClr val="cc6600"/>
                </a:solidFill>
                <a:latin typeface="Arial"/>
              </a:rPr>
              <a:t>for some ch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remittance date : </a:t>
            </a:r>
            <a:r>
              <a:rPr b="0" lang="en-US" sz="1400" spc="-1" strike="noStrike">
                <a:solidFill>
                  <a:srgbClr val="cc6600"/>
                </a:solidFill>
                <a:latin typeface="Arial"/>
              </a:rPr>
              <a:t>different facts and different ch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issing or forbidden facts : </a:t>
            </a:r>
            <a:r>
              <a:rPr b="0" lang="en-US" sz="1400" spc="-1" strike="noStrike">
                <a:solidFill>
                  <a:srgbClr val="cc6600"/>
                </a:solidFill>
                <a:latin typeface="Arial"/>
              </a:rPr>
              <a:t>precondition testing (presence of total and one of the subtot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imple formula : </a:t>
            </a:r>
            <a:r>
              <a:rPr b="0" lang="en-US" sz="1400" spc="-1" strike="noStrike">
                <a:solidFill>
                  <a:srgbClr val="cc6600"/>
                </a:solidFill>
                <a:latin typeface="Arial"/>
              </a:rPr>
              <a:t>addressing any element  of the XBRL instance. The name, dimensions, dimension values are explicitly indic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hank you for your attentio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0"/>
            <a:ext cx="8675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484280"/>
            <a:ext cx="7010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35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Design of the SURFI future tem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35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mplementation of architecture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35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generation ot the tax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35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 link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093080" y="6597720"/>
          <a:ext cx="1800000" cy="13500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135720">
                <a:tc>
                  <a:txBody>
                    <a:bodyPr lIns="90000" rIns="90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ENSITIVITY LEVEL : PUBL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0"/>
            <a:ext cx="8675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of Surfi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1484280"/>
            <a:ext cx="7010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93080" y="6597720"/>
          <a:ext cx="1800000" cy="13500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135720">
                <a:tc>
                  <a:txBody>
                    <a:bodyPr lIns="90000" rIns="90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ENSITIVITY LEVEL : PUBL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042920" y="1700280"/>
            <a:ext cx="734544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 of templates provided by business-oriented staff for statistical and risk assessing purposes ( Accounting, Statistics, Monetary Directorates, and French overseas institution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 cartridge headers, major dimension break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 column headers, dimension break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 some rows, dimension break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parate file for elements belonging to « Accounting class data tree » (9 primaries gener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227640" y="3691080"/>
          <a:ext cx="1044720" cy="81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3691080"/>
                    <a:ext cx="104472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3727440"/>
            <a:ext cx="1000080" cy="781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099280" y="3762360"/>
            <a:ext cx="936720" cy="731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500720" y="5605560"/>
            <a:ext cx="107928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0"/>
            <a:ext cx="8675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of Surfi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1484280"/>
            <a:ext cx="7010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093080" y="6597720"/>
          <a:ext cx="1800000" cy="13500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135720">
                <a:tc>
                  <a:txBody>
                    <a:bodyPr lIns="90000" rIns="90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ENSITIVITY LEVEL : PUBL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1042920" y="981000"/>
            <a:ext cx="73454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 of templates transformed for automation purpo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between number of « excluded hypercubes » and EL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(Extended Link Role)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with no Open Hyper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use of a specific colour code to identify dimension names and their values, facts, forbidde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use of a short code for name handling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(each code is bound to a tooltip containing the name of the element, the dimensions and dimension values associa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use of specific files for dimensions and hyper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1152360" cy="90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629080" y="5156280"/>
            <a:ext cx="1152360" cy="900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284720" y="5192640"/>
            <a:ext cx="1152360" cy="90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236000" y="5156280"/>
            <a:ext cx="1081080" cy="844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940360" y="5234040"/>
            <a:ext cx="100800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architecture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181080" y="981000"/>
            <a:ext cx="889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2" marL="91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lobal architecture (templates and « primaries ») 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29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1052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288960"/>
            <a:ext cx="1187280" cy="489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sia-2009-06-30.xs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2060640"/>
            <a:ext cx="172872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-SURFI-2009-06-30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256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2565360"/>
            <a:ext cx="1081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7640" y="3288960"/>
            <a:ext cx="1187640" cy="489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ste-2009-06-30.xs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3288960"/>
            <a:ext cx="1187280" cy="489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sor-2009-06-30.xs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2565360"/>
            <a:ext cx="20178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3287880"/>
            <a:ext cx="936360" cy="67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19280" y="2565360"/>
            <a:ext cx="316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1989000"/>
            <a:ext cx="115236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-CARTO-2009-06-30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3080" y="1989000"/>
            <a:ext cx="129528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-BLANCHI-2009-06-30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2232720" y="1879920"/>
            <a:ext cx="358920" cy="446580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6280 h 4465800"/>
              <a:gd name="textAreaBottom" fmla="*/ 4349520 h 446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4221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72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696720" y="1446840"/>
            <a:ext cx="574560" cy="3097080"/>
          </a:xfrm>
          <a:custGeom>
            <a:avLst/>
            <a:gdLst>
              <a:gd name="textAreaLeft" fmla="*/ 367200 w 574560"/>
              <a:gd name="textAreaRight" fmla="*/ 574920 w 57456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44160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dependant taxonom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5084640"/>
            <a:ext cx="75564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-sia-2009-06-30.xs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39640" y="3789360"/>
            <a:ext cx="144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5084640"/>
            <a:ext cx="75564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-ste-2009-06-30.xs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402920" y="3789360"/>
            <a:ext cx="576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5084640"/>
            <a:ext cx="75564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-s02-2009-06-30.xs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5084640"/>
            <a:ext cx="75564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-s08-2009-06-30.xs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5084640"/>
            <a:ext cx="75564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-s04-2009-06-30.xs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11280" y="3789360"/>
            <a:ext cx="720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203640" y="3789360"/>
            <a:ext cx="21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3789360"/>
            <a:ext cx="43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5084640"/>
            <a:ext cx="93672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-sxx-2009-06-30.xs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3933720"/>
            <a:ext cx="72072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140000" y="3933720"/>
            <a:ext cx="215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476000" y="3933720"/>
            <a:ext cx="259092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0"/>
            <a:ext cx="8675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architectu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1484280"/>
            <a:ext cx="7010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093080" y="6597720"/>
          <a:ext cx="1800000" cy="13500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135720">
                <a:tc>
                  <a:txBody>
                    <a:bodyPr lIns="90000" rIns="90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ENSITIVITY LEVEL : PUBL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042920" y="1268280"/>
            <a:ext cx="7345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hoice of  a modularized model for the taxonomy architecture (FINREP 1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se of Closed All (Inclusion) hypercubes and Open notAll (Exclusion) hypercubes : Only possible alternative for strict data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No modular files for hypercubes : not many common hypercubes shared by several templates and too many notAll hypercubes (t definition linkb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No subdomain for dimension values (declaration in hypercubes themsel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se of default dimension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0"/>
            <a:ext cx="8675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architectu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093080" y="6597720"/>
          <a:ext cx="1800000" cy="13500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135720">
                <a:tc>
                  <a:txBody>
                    <a:bodyPr lIns="90000" rIns="90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ENSITIVITY LEVEL : PUBL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340000" y="2852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332000" y="2852640"/>
            <a:ext cx="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372360" y="1484280"/>
            <a:ext cx="0" cy="106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981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7560" y="3997440"/>
            <a:ext cx="20826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-spp-AAAA-MM-JJ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32680" y="3997440"/>
            <a:ext cx="20970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-spp-AAAA-MM-JJ-presentation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43200" y="3260880"/>
            <a:ext cx="20973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-spp-AAAA-MM-JJ-label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51120" y="3997440"/>
            <a:ext cx="20829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-spp-AAAA-MM-JJ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32680" y="4835520"/>
            <a:ext cx="209700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-s0n-AAAA-MM-JJ-presentation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51120" y="4842000"/>
            <a:ext cx="208296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-s0n-AAAA-MM-JJ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43200" y="5591160"/>
            <a:ext cx="209736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-s0n-AAAA-MM-JJ-label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2508120"/>
            <a:ext cx="20829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-ddd-AAAA-MM-JJ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32680" y="3260880"/>
            <a:ext cx="2097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-ddd-AAAA-MM-JJ-label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87560" y="4842000"/>
            <a:ext cx="2082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 Narrow"/>
              </a:rPr>
              <a:t>entrée-x-surfi-AAAA-MM-JJ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32680" y="5584680"/>
            <a:ext cx="209700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-s0n-AAAA-MM-JJ-reference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2960" y="981000"/>
            <a:ext cx="2097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-ddd-AAAA-MM-JJ-presentation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3213000"/>
            <a:ext cx="2097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-spp-AAAA-MM-JJ-definition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2960" y="1743120"/>
            <a:ext cx="2097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-ddd-AAAA-MM-JJ-definition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64240" y="416232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98880" y="3654360"/>
            <a:ext cx="4953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09040" y="21240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616280" y="36990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20840" y="5923080"/>
            <a:ext cx="1387800" cy="276480"/>
            <a:chOff x="1320840" y="5923080"/>
            <a:chExt cx="1387800" cy="276480"/>
          </a:xfrm>
        </p:grpSpPr>
        <p:sp>
          <p:nvSpPr>
            <p:cNvPr id="140" name=""/>
            <p:cNvSpPr/>
            <p:nvPr/>
          </p:nvSpPr>
          <p:spPr>
            <a:xfrm>
              <a:off x="1320840" y="60613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41120" y="592308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XPoi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320840" y="5418000"/>
            <a:ext cx="1230840" cy="276480"/>
            <a:chOff x="1320840" y="5418000"/>
            <a:chExt cx="1230840" cy="276480"/>
          </a:xfrm>
        </p:grpSpPr>
        <p:sp>
          <p:nvSpPr>
            <p:cNvPr id="143" name=""/>
            <p:cNvSpPr/>
            <p:nvPr/>
          </p:nvSpPr>
          <p:spPr>
            <a:xfrm>
              <a:off x="1320840" y="555624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47240" y="5418000"/>
              <a:ext cx="60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20840" y="5670720"/>
            <a:ext cx="1415160" cy="276480"/>
            <a:chOff x="1320840" y="5670720"/>
            <a:chExt cx="1415160" cy="276480"/>
          </a:xfrm>
        </p:grpSpPr>
        <p:sp>
          <p:nvSpPr>
            <p:cNvPr id="146" name=""/>
            <p:cNvSpPr/>
            <p:nvPr/>
          </p:nvSpPr>
          <p:spPr>
            <a:xfrm>
              <a:off x="1320840" y="580860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35000" y="5670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XLinkR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213680" y="2911320"/>
            <a:ext cx="0" cy="4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16280" y="524844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64240" y="428940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64240" y="50007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64240" y="512748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5254560"/>
            <a:ext cx="520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454040" y="366084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35200" y="36352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36800" y="4048200"/>
            <a:ext cx="20826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-sxx-2009-06-30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46640" y="4076640"/>
            <a:ext cx="20973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-spp-AAAA-MM-JJ-presentation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3348000"/>
            <a:ext cx="20970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-sxx-2009-06-30-label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64000" y="4068720"/>
            <a:ext cx="20826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-sxx-2009-06-30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32360"/>
            <a:ext cx="209700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-s0n-AAAA-MM-JJ-presentation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4932360"/>
            <a:ext cx="208260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-s0n-2009-06-30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27360" y="5661000"/>
            <a:ext cx="209700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-s0n-AAAA-MM-JJ-label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6880" y="2629080"/>
            <a:ext cx="20829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-ddd-AAAA-MM-JJ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81560" y="3348000"/>
            <a:ext cx="2097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-ddd-AAAA-MM-JJ-label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4932360"/>
            <a:ext cx="2082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 Narrow"/>
              </a:rPr>
              <a:t>t-SURFI-2009-06-30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5661000"/>
            <a:ext cx="209700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-s0n-AAAA-MM-JJ-reference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56360" y="1052640"/>
            <a:ext cx="2097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-ddd-AAAA-MM-JJ-presentation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3284640"/>
            <a:ext cx="2097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-sxx-2009-06-30-definition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56360" y="1836720"/>
            <a:ext cx="2097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-ddd-AAAA-MM-JJ-definition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18320" y="21240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19400" y="507672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077920" y="44053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87640" y="3645000"/>
            <a:ext cx="792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916360" y="2708280"/>
            <a:ext cx="3240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2421000"/>
            <a:ext cx="2097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-sxx-2009-06-30-definition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2492280"/>
            <a:ext cx="2097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-sxx-2009-06-30-definition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28000" y="1484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8360" y="0"/>
            <a:ext cx="8675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architectu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7740720" cy="4969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-181080" y="549360"/>
            <a:ext cx="889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2" marL="820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3120" indent="-1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INTENCO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late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orkbook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720" y="836640"/>
            <a:ext cx="1476360" cy="504720"/>
          </a:xfrm>
          <a:prstGeom prst="wedgeRoundRectCallout">
            <a:avLst>
              <a:gd name="adj1" fmla="val -90106"/>
              <a:gd name="adj2" fmla="val 7138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Dimension code: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ValorisationDimen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1484280"/>
            <a:ext cx="1116000" cy="647640"/>
          </a:xfrm>
          <a:prstGeom prst="wedgeRoundRectCallout">
            <a:avLst>
              <a:gd name="adj1" fmla="val -87412"/>
              <a:gd name="adj2" fmla="val -20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Dimension code value: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FluxDInteretMensu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12000" y="5300640"/>
            <a:ext cx="1332000" cy="720720"/>
          </a:xfrm>
          <a:prstGeom prst="wedgeRoundRectCallout">
            <a:avLst>
              <a:gd name="adj1" fmla="val -112217"/>
              <a:gd name="adj2" fmla="val -2136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imension cod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ResidenceDimen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85080" y="2492280"/>
            <a:ext cx="1258920" cy="432000"/>
          </a:xfrm>
          <a:prstGeom prst="wedgeRoundRectCallout">
            <a:avLst>
              <a:gd name="adj1" fmla="val -161851"/>
              <a:gd name="adj2" fmla="val -12279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imension labe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04000" y="3284640"/>
            <a:ext cx="1440000" cy="1008000"/>
          </a:xfrm>
          <a:prstGeom prst="wedgeRoundRectCallout">
            <a:avLst>
              <a:gd name="adj1" fmla="val -31476"/>
              <a:gd name="adj2" fmla="val -26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Same primary with different breakd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« OR » re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410920" y="2707920"/>
            <a:ext cx="52578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410920" y="3573360"/>
            <a:ext cx="5256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016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8515080" cy="2663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62064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lvl="2" marL="248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520" indent="-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INTENC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-ste-2009-06-30.xsd, p-ste-2009-06-30.xs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995640" y="5229360"/>
            <a:ext cx="863640" cy="647640"/>
            <a:chOff x="3995640" y="5229360"/>
            <a:chExt cx="863640" cy="647640"/>
          </a:xfrm>
        </p:grpSpPr>
        <p:sp>
          <p:nvSpPr>
            <p:cNvPr id="192" name=""/>
            <p:cNvSpPr/>
            <p:nvPr/>
          </p:nvSpPr>
          <p:spPr>
            <a:xfrm>
              <a:off x="3995640" y="5229360"/>
              <a:ext cx="0" cy="647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95640" y="5229360"/>
              <a:ext cx="86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95640" y="5877000"/>
              <a:ext cx="86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59280" y="5229360"/>
              <a:ext cx="0" cy="647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0" y="2997360"/>
            <a:ext cx="9143640" cy="215640"/>
            <a:chOff x="0" y="2997360"/>
            <a:chExt cx="9143640" cy="215640"/>
          </a:xfrm>
        </p:grpSpPr>
        <p:sp>
          <p:nvSpPr>
            <p:cNvPr id="197" name=""/>
            <p:cNvSpPr/>
            <p:nvPr/>
          </p:nvSpPr>
          <p:spPr>
            <a:xfrm>
              <a:off x="0" y="299736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2997360"/>
              <a:ext cx="914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3213000"/>
              <a:ext cx="914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143640" y="299736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0" y="1989000"/>
            <a:ext cx="9143640" cy="144720"/>
            <a:chOff x="0" y="1989000"/>
            <a:chExt cx="9143640" cy="144720"/>
          </a:xfrm>
        </p:grpSpPr>
        <p:sp>
          <p:nvSpPr>
            <p:cNvPr id="202" name=""/>
            <p:cNvSpPr/>
            <p:nvPr/>
          </p:nvSpPr>
          <p:spPr>
            <a:xfrm>
              <a:off x="0" y="1989000"/>
              <a:ext cx="0" cy="144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1989000"/>
              <a:ext cx="914364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2133720"/>
              <a:ext cx="914364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143640" y="1989000"/>
              <a:ext cx="0" cy="144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7596360" y="907920"/>
            <a:ext cx="1547640" cy="720720"/>
          </a:xfrm>
          <a:prstGeom prst="wedgeRoundRectCallout">
            <a:avLst>
              <a:gd name="adj1" fmla="val -259129"/>
              <a:gd name="adj2" fmla="val 1079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H00106: global closed All hyper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2492280"/>
            <a:ext cx="9143640" cy="216000"/>
            <a:chOff x="0" y="2492280"/>
            <a:chExt cx="9143640" cy="216000"/>
          </a:xfrm>
        </p:grpSpPr>
        <p:sp>
          <p:nvSpPr>
            <p:cNvPr id="208" name=""/>
            <p:cNvSpPr/>
            <p:nvPr/>
          </p:nvSpPr>
          <p:spPr>
            <a:xfrm>
              <a:off x="0" y="2492280"/>
              <a:ext cx="0" cy="216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2492280"/>
              <a:ext cx="9143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2708280"/>
              <a:ext cx="9143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143640" y="2492280"/>
              <a:ext cx="0" cy="216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0" y="3357720"/>
            <a:ext cx="9143640" cy="215640"/>
            <a:chOff x="0" y="3357720"/>
            <a:chExt cx="9143640" cy="215640"/>
          </a:xfrm>
        </p:grpSpPr>
        <p:sp>
          <p:nvSpPr>
            <p:cNvPr id="213" name=""/>
            <p:cNvSpPr/>
            <p:nvPr/>
          </p:nvSpPr>
          <p:spPr>
            <a:xfrm>
              <a:off x="0" y="3357720"/>
              <a:ext cx="0" cy="215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3357720"/>
              <a:ext cx="9143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3573360"/>
              <a:ext cx="9143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3640" y="3357720"/>
              <a:ext cx="0" cy="215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596360" y="3716280"/>
            <a:ext cx="1547640" cy="503280"/>
          </a:xfrm>
          <a:prstGeom prst="wedgeRoundRectCallout">
            <a:avLst>
              <a:gd name="adj1" fmla="val -386305"/>
              <a:gd name="adj2" fmla="val -109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H00096: local notAll open hyper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451640" y="4724280"/>
            <a:ext cx="1692360" cy="1223640"/>
            <a:chOff x="7451640" y="4724280"/>
            <a:chExt cx="1692360" cy="1223640"/>
          </a:xfrm>
        </p:grpSpPr>
        <p:sp>
          <p:nvSpPr>
            <p:cNvPr id="219" name=""/>
            <p:cNvSpPr/>
            <p:nvPr/>
          </p:nvSpPr>
          <p:spPr>
            <a:xfrm>
              <a:off x="7451640" y="4724280"/>
              <a:ext cx="0" cy="1223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51640" y="4724280"/>
              <a:ext cx="1692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51640" y="5947920"/>
              <a:ext cx="1692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144000" y="4724280"/>
              <a:ext cx="0" cy="1223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0" y="3429000"/>
            <a:ext cx="900000" cy="1008000"/>
          </a:xfrm>
          <a:prstGeom prst="wedgeRoundRectCallout">
            <a:avLst>
              <a:gd name="adj1" fmla="val 82981"/>
              <a:gd name="adj2" fmla="val -813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H00100: local notAll open hyper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0"/>
            <a:ext cx="8675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architectu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9:21:56Z</dcterms:created>
  <dc:creator>Audrey JOSEPHINE-FRANCOIS</dc:creator>
  <dc:description/>
  <dc:language>en-US</dc:language>
  <cp:lastModifiedBy>Bernard DARRIUS</cp:lastModifiedBy>
  <dcterms:modified xsi:type="dcterms:W3CDTF">2009-06-19T14:08:07Z</dcterms:modified>
  <cp:revision>88</cp:revision>
  <dc:subject/>
  <dc:title>Diapositive 1</dc:title>
</cp:coreProperties>
</file>